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CCDC3-A2BB-4EAC-8833-7984DA89FA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44CE-5C78-4017-B042-D437127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2595CE-DEAD-4BB8-9CD6-A4AEBBDC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15994D-35E0-43BD-996C-DE192016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490CD9-6195-4C4B-B25D-80EC6FA2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67BB72-A4F4-479E-8E16-20742C54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2EFEF9-760C-4EF1-9C66-09D8657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A08E6-0CA9-4449-AD5C-4CCA0711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7A5881-DA3D-4EBD-AB64-577F3FA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BE9B4-4AA4-4C34-B2D8-AD6E6A8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319235-A5FB-466F-8B21-C00AD33E6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5BAA5-BFCF-4CC4-9ED5-16A673446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4A66-3ABE-4372-902C-C2A6D55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22AB-E755-4879-9612-04108015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9E23F-5B8B-4790-8AA5-6C27F6F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B2092-F4A6-4B68-944E-077D23C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3643-36C7-4CB7-B659-ADD0EA7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CE92-A28D-47F5-A23F-BECBE8F3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8574-BE6A-4B24-BBEE-4585496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ACFA-D8F0-44FB-B7C3-D792987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C184-8790-4B3E-A46D-EBC4B2D1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67B7-EFDC-4B42-A204-50A377BD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51CB-844E-42BC-9F62-2811877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5E5C-A40F-441F-A568-F539310EE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B4CF-7CA2-4222-AD46-AF0A13A0B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230A3-893C-4681-9D81-390F9C3A9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0F8F91-AF1E-4CB3-BAC9-CDAF9214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03AEE-2E41-4EE5-98B4-94118062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33246B-089D-4851-9B43-C049725F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E3A454-267C-4A34-B8FF-2D60FF5F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587EB-6BC5-470A-B495-083525A5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E11A70-8D7C-4593-8EAA-BD6F21E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7B5D2-2811-4B98-B709-4AD503A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A7054-164E-4975-BAB5-1B10507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A01C4-4F68-4EDD-80D8-7A8D7B0F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059F6-1988-401B-979D-AF170B0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F9212-5273-4336-BB79-B6903DA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1EADE-D26C-472B-9164-417FB8FC0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D7360-56E3-4A26-95A7-24EBC2D97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84430-3A53-43D3-8DFF-263CCCFF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D0876-7634-44CA-8F14-097111AA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DA5F2-0966-43A3-8A9D-EC472135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ABED9-628C-425C-8CD2-D482CD69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FD639-A762-472F-A134-1874E6C7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B67AC-1D4D-4A84-B6FB-D6179A4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B3BC2-F295-47D8-B070-F8FCA1FF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FBB18-545E-4F43-AA2D-D779798D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3F0F6-E260-4945-9879-3F3410E5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7B29A-8EF8-4641-9DF0-1A32E46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5908F-8F70-44BD-8092-8789A4E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9E8FB-8C73-4F7A-94A7-48B53C4886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52CC-3649-44E1-9853-1C7D0592C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16E08-4594-447B-A4CD-F2CEE5E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5233-FC4D-4761-AD83-EA20EB67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9E634-F49C-407A-A89A-8A54502A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8AF39-006E-4389-8D51-1131B12C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6A96E-97C4-4C29-8C30-FB945BA1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33642-91C1-4484-8693-552E5C43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30768-032D-45CE-B115-A46CBBE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14563-1225-46CF-A6AF-4FC631A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56F24-E81F-47C4-B2CB-E6D471E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CDE58-0041-4C72-B975-803A55FB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1CD3B-1566-41D4-8D0B-5F3A371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3408-3D5F-431D-AABE-04CCC28EB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2DCB-023F-478A-9717-B52FE32B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0DB92-7BC6-4FD8-8B1C-25D7A136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4736C-1C2A-4971-A9F3-DEF3EFC3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CA9C4-7B5E-4D00-B5A0-7078D77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C76D8-A56B-4A81-B328-92801B1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9FBCB-05FC-4EF4-A30C-FEA43A9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400B8-F67A-4F9B-A1E5-35E3309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9BA2C-B653-4231-B57E-663BA2F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B5026-B736-4BA5-9313-F7AE566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3363E-E994-4862-9042-1E160EE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C6C7A-5CE3-4C0E-A452-806492A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AFFA1-B75B-459F-8723-8C8D0E3D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F7F94-18BD-404B-B0E9-CB4A284A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9A54B-7D17-491A-A5C7-8829B15D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E779B-8E37-4016-8193-33330EA0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E8E7A-B04F-465D-B2B8-4074D689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6227F-D512-4FD9-81EE-703B81BD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77B66-11FD-46FC-A247-59D02F5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2A41-03A9-439E-B2F7-F9EE6C10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2706F-7E98-4701-80B4-52DAED1D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B9D9-038A-4B6E-8C9D-78E9DF7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78AAF-3EF1-4570-B8A9-EC6B90D3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5ADD4-9946-44B7-A538-1A59126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621D-6DA8-4296-BBD1-716042E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6C73-08CA-47E5-BE99-372DACDD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7B238-4B0A-46BB-A388-045CE71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3CF36-92AC-4014-8895-DD798B70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5BD1-D0F5-43F8-927C-9276FB3A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988F2-D984-47F4-918E-4E5FEAD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6DA4-93CF-49E2-BA1D-427F148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9E405-63ED-4DD4-9002-F528228F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FFB9-1775-40D4-A692-BA485658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202B-AA03-4A9A-A5E1-1D5A64AA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5B732-C625-4922-84D9-795A521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7B339-6F55-483E-BDD8-97EBBDE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82E1B-0FAC-4DB0-9BB7-EE3BE2E7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08A9F-9BA5-4B3C-97F9-EF8ABA4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3732-2540-4C35-B042-C6433802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3EAE3-4036-4F7D-8C73-A364DDD4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B3E01-C6B8-4753-9E2E-EC33E4AC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5FADC-A59A-48D1-81E3-E085DE20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C7AAD-E831-4E3B-BB37-BBC61218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FE657-C955-4E2B-A41E-30371B0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A6785-F6D4-47B5-9E3C-F43088C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6BE3B-D1B0-4188-B0D7-C9AA113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AD17E-F1B5-4087-B2CD-48F5BEED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A7000-79E2-4467-BE1F-161F51A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559C-3666-4ED5-891F-1BCB84F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E852E-8E6C-4368-AFCD-679F7D4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4B798-D48F-4CC4-B28D-DF2DB279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8DA39-F27F-48BF-87EA-FB3E66F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04BAB-6923-4F90-A492-5B64B7D2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90415-8970-40C4-8202-9738A88B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1A831-E164-4D8B-A976-3C25411E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8138B-0F24-4F52-ABF8-B79C4F9A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0C40D-C6A7-4F0A-B904-DB2CE6B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9DA98-E608-4D47-9C2E-50BA6B6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1D872-2C2D-462A-8BE3-9BAFC8E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8361D-F72D-49CB-9BB1-6790E9ED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B5A2D-1DF4-4B86-9F2C-D631CAE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686FA-8605-48D3-BCE8-93BED35D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36082-66F4-458E-B7F6-09CB7FC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59916-7A18-456D-A7B6-8E186383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D788C-1EFB-4352-B86E-944D56E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50279-7B9F-41A8-AEC8-3EC780F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B217B-4605-4A37-A65E-479303DB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A276D-F6DF-483D-A258-C43C5275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AC610-891E-4E94-9836-EA746050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C7DA0-841F-4B32-9FAE-F5141D5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A324B-BB5F-4AC0-9AA1-BA59EEB9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0C142-7609-4B65-8C03-7B9EB37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D054F-92B8-498F-8C2A-C7813D0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67124-2032-478D-82AD-FA4069E7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8FB41-88E7-4468-90E0-B800BCA9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952FA-BAFA-4AC8-AD80-0CEE152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49F2E-AC3D-4B41-A0D7-8DFEE10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96DC9-A126-4D2E-8299-8928EDF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C9C4B-CDE4-4E33-931C-32F1CBC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FC3D9-B91D-4097-9B48-B59C297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3A601-3A0D-4519-ACC8-5F8C3A4A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2982D-4E35-4096-8C48-FAB15513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D2BAC-157E-4450-91AE-CA93274B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6B61F-B3B4-4317-8900-4197746E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D0E2E-6C20-47B1-8DE9-F90A034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E3224-1AED-4127-B171-B2641C16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74EAC-56F4-4E4A-BE8A-5264BCE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2E866-407D-4F3F-BDEA-7CAAAE31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75BEE-DC8F-466F-9622-225D43F9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8A582-E4D2-4983-8B9F-E8C9394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B1736-D963-47F7-8760-3694032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2D46E-A693-4B3E-B8C3-D34C01AA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7A7B1-1E7C-46A3-9929-A4E5C66A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2F445-26F8-480F-9371-D068B3C7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16D5E-6B88-4C9E-A5F5-1627DDE3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DB5734-46E0-43F8-BD10-01CE8005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03A77-241B-41AE-A35C-EF46A4EA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2379F-ED8E-4FBB-A43D-936CFAE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DC7CE-2C31-4BDE-AD26-A598BDA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99A68-6DB0-42FF-985F-900D57F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B7A7D9-65AA-4E6F-957B-D440854B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17C97-D0B0-4345-AF73-2D51623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D13BE-6094-43E6-93DF-CF07186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20A2A-0DDE-433B-A6EB-5354E2FA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3C488-06BF-4A84-A390-C623351EF7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D2F29-DA0D-4555-9F26-40EE138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27E01-140D-406E-BEDB-1D38B490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BAC35-434E-469F-B17D-F692A837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5C1C6-F29E-46F3-B323-9A60633D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9B7E1F-99B4-4444-B5A0-E7A54315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73C50-D58E-4520-A369-E5027E5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B09B1-92F9-4CB1-8AF9-018ABD31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AA0CB-B98E-466F-AE45-CC71267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B9D28-0E0D-4997-A0DD-337A2DB6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7FB65-D3C2-4B21-B2DA-DBB4531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DF0E43-D706-49D5-914F-C190F40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04931-215F-4D05-ABB3-FBA61F7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2FAC2-77D5-42CB-BF9F-4F4C90A1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7EC5D-9271-4BA1-855F-B60E07C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65BFD-6D33-44EF-800A-A9435A19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B1704-4706-48EB-A616-23AF10A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255E7-BF87-4B34-A0ED-EC3B53F7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7E6B3-05D0-4D56-88A5-44798D43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36A86-B070-44B2-AA46-92DBA18E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E8269-3929-408F-8C14-01FA142A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96E5C-A0A4-4CEA-B004-16F7539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9FBEB-0EAA-4BBB-85DE-E46C30B0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44078-F77E-4696-BF40-2F2989C3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4B79D1-CB71-47C5-A6C4-74473C5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BB4CF-E4D3-47A4-88BB-F8A2D28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2DB88-E803-489D-9D6F-67FC4F4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6E3F3-268D-4FDA-9CF3-50835CB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D6271-724C-4491-9590-D353CED4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0DB22-F509-46C9-9DB2-3D78486B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7B1EF-9819-481A-BBA6-2C97BC80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D707F-F65B-469A-A671-B19691B6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C7C10-6455-4621-AE05-89F29DA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916D3-69CF-4000-93FC-EB45580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D1A2C-B98E-4867-8A6F-9BA8AB7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F0309-82CE-4E98-9D63-9EBBD43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4774E-48DE-4D39-8AB3-72B99BC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62E5C-3D09-456B-A025-2076A73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4E822-A966-4780-9D3D-93BA4F6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812D36-E003-437A-AE2F-74CDCC9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03AC2-332C-477D-9463-89B2BC4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3B729-F216-493A-89A2-AE728E47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82081-45C2-4493-8628-60403D23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E48AC-AEC9-4DEA-B53B-1A10CF5F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E736-33E9-47B6-8C37-D35FBC1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07E3A-40C5-4F62-9CFE-4776DB5D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B6B9F6-A09B-429E-B7F6-DF1A89E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3AD18-2289-4A2C-80A0-1655D46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224D0-9678-4525-A73D-8CBB4C9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DEDB3-4E33-48B3-AB3D-164EB5C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85BCC-DAAF-43E4-82B0-B9A8B4C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07CCD-2750-4E70-814C-3C4BE80F46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191DC-9250-4DD3-A601-F6965317E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F38D-0C2A-4906-BBA7-914ADF8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37A8-D06B-42FE-8367-FA3D6F1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4B44-B8EF-47A6-B8FF-F07C78D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2166-0C3C-49AC-8CC7-89D5C4D3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5B91-B90A-42B4-A30A-3B483C85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7EEF6-FCCB-4D7C-B2E6-289C4412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D719-DD7A-40BB-A6D7-0CF168B8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3F68-D0FA-4A8F-B329-EA586CAB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2CAE3-C34A-4E06-9FBD-01D3F635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6EA6F-AF4B-41E6-8F23-4D2391ED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E3B7-0134-4948-9B74-EFD4D1B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C6D2-35B7-4764-9042-1887224F5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03C1E-BD5D-412C-A352-B4EABE368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3346-997E-48CF-8766-E73923BE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ADFBA-B668-4157-8600-EE7DC88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C5172-E54C-48D2-9D2C-FF124E89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E946C-E264-4230-A6F2-A03E7002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228AD-65F7-41EC-BE36-822A337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BC5A4-E4F4-497A-AFFC-AD26748E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CBD70-2BEE-404F-B8EC-6E2BFEB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293A4-43BB-42C3-B9DB-0AE0C954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3ACB3-AB44-41CC-9C1E-7B8952B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3EACD-356F-4B7B-9F66-4DD13B6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8F81A-48EB-4092-9EC7-C85C31E8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80E6-3A40-40AA-9993-2B94568A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ED5FB-A99B-4ED9-8C0B-57666AD811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A40EF-47BE-413B-AEAA-0E9B89AB74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8E751-6208-420E-A533-A1D6A068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BF549D-B4D3-45C8-93A9-B768E01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E1EE7-7DAA-47E1-8DF6-002047C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C83C74-BBC4-47DE-A409-6EE26A8F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055EB-4EFF-4460-B6D9-C126D0B7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AAE9E-2043-4A0E-8029-4B5E851C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D0E73-CA45-4868-A661-5B6817EB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BAFD13-5FB6-4B69-8A41-B29493E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D35E-DEC0-45C5-9E62-234CCF7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716B4-F6DD-4137-AF8B-080D1354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9A53FB-00CC-40A5-B250-2E8BEC2E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6BDE5-8830-4F61-8FA4-C955BCF0F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327E-CD2C-4576-8C26-0422AEBB11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6677-9C5C-4B7F-A034-A847A49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A591-67B2-4A8C-BC40-03658BF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093B-A4BA-4FBA-AFC5-F7598E55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2C42-149C-4308-A65D-536AD883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BB46-FAF5-46D2-8694-0F1A066C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E159-8E46-432E-ABDD-2A688E45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7B23-3DFF-4100-8088-00FA10C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0A1A-6B14-46CC-BCC9-951A567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5846-BC68-469B-97EE-A95B91D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96C66-BBB5-489B-9AB7-A89F45F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4CD9-04CB-424C-B9F4-2A7C41B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B4AC-957D-406B-AB5C-28220A8338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CFCBB-DD2A-42F4-95C7-E4F79893E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2F5AA-FECB-4E08-A11A-AA1D19E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3A954-51DE-4848-8D51-0DC2C8B4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40EBC-4A27-4867-8EEA-2EA33278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3B3A6A-E70D-4E72-BB6B-862F4AAA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6B92-0F36-49F8-95AF-87FA6CC0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AB1A2-8D25-43AF-B050-D543E6AF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288BD-7F41-433B-9C5E-56064602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61B92-F9F5-412A-9A5A-884565F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FFA47-F1F2-4B04-A722-CFCAC791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2B963-9FCA-46D9-AA29-EF7515BD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A4665-2CCB-4794-B5C3-0AA2AEF4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ECAB6-C5CA-43D7-BCE7-0CE222B9C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0A1645-D9CD-442D-937E-941C1F58C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CE3ED8-5255-4B57-B5A8-CE3CE2D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CFAB4-15BF-4339-AB45-85F8FF66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C50-06AC-4AB3-806A-95CA919F80A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7CC-B857-4C19-AAEE-B2A3E73400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EDBE-0CBD-463E-B048-6EED59F4B3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312-EF17-402C-BFAB-C1BBFBD4C6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CB7-E9FD-45A9-9A0A-7B4CBFEF10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6AC0-9077-4C4E-B829-79A2C006D8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D42B-04EA-492E-8E71-A0C2E9CFD5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3276-AECA-4E46-B895-8B010788F2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761B-F9D4-4E76-ADA2-EA72445218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E48-7E66-4003-9681-B3788DBAF1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D81C-1517-407B-A536-132B2E9795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E91-54DD-4A2F-B102-91328716D6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1F24-56B5-45E8-A6E2-3709D405C09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01B-FF24-44CD-859F-04C9AC5F18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ABC-59A5-417D-A50D-6F574880B0E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8CF3-F4AB-4859-B0E2-6D37C7B300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3E21-ABCA-4C40-A81A-D63C3F69EB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596-5602-4932-B8DE-AE57DFE02F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8D90-A4B0-4161-BD39-9E5E1D754C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0157-8CC7-4DA9-BBD3-0B668CF23D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C9CC-93F2-4A88-8A02-6FC2DC213C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8C3-F8FA-4445-9584-38CAE53C89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C87-07F5-413F-9F5B-B825AC686F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A779-19FC-4BE7-96E7-45121EFB88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1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5167080" cy="360"/>
            <a:chOff x="2284560" y="2448000"/>
            <a:chExt cx="51670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5167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51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65564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138320" y="2666880"/>
            <a:ext cx="72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 长方形与正方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2080" y="1744560"/>
            <a:ext cx="69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组合 2"/>
          <p:cNvGrpSpPr/>
          <p:nvPr/>
        </p:nvGrpSpPr>
        <p:grpSpPr>
          <a:xfrm>
            <a:off x="0" y="101520"/>
            <a:ext cx="2944800" cy="525600"/>
            <a:chOff x="0" y="101520"/>
            <a:chExt cx="2944800" cy="525600"/>
          </a:xfrm>
        </p:grpSpPr>
        <p:pic>
          <p:nvPicPr>
            <p:cNvPr id="12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3920" y="101520"/>
              <a:ext cx="281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96" name="组合 4"/>
            <p:cNvGrpSpPr/>
            <p:nvPr/>
          </p:nvGrpSpPr>
          <p:grpSpPr>
            <a:xfrm>
              <a:off x="0" y="197280"/>
              <a:ext cx="389160" cy="272160"/>
              <a:chOff x="0" y="197280"/>
              <a:chExt cx="389160" cy="272160"/>
            </a:xfrm>
          </p:grpSpPr>
          <p:sp>
            <p:nvSpPr>
              <p:cNvPr id="1297" name="椭圆 2"/>
              <p:cNvSpPr/>
              <p:nvPr/>
            </p:nvSpPr>
            <p:spPr>
              <a:xfrm rot="16200000">
                <a:off x="234360" y="36324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960" y="33408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9" name="椭圆 29"/>
              <p:cNvSpPr/>
              <p:nvPr/>
            </p:nvSpPr>
            <p:spPr>
              <a:xfrm rot="16200000">
                <a:off x="234360" y="23940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960" y="21276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17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1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5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05" name="文本框 1"/>
          <p:cNvSpPr/>
          <p:nvPr/>
        </p:nvSpPr>
        <p:spPr>
          <a:xfrm>
            <a:off x="430200" y="968400"/>
            <a:ext cx="33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求下面图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组合 13"/>
          <p:cNvGrpSpPr/>
          <p:nvPr/>
        </p:nvGrpSpPr>
        <p:grpSpPr>
          <a:xfrm>
            <a:off x="755640" y="2060640"/>
            <a:ext cx="3367080" cy="1513440"/>
            <a:chOff x="755640" y="2060640"/>
            <a:chExt cx="3367080" cy="1513440"/>
          </a:xfrm>
        </p:grpSpPr>
        <p:sp>
          <p:nvSpPr>
            <p:cNvPr id="1307" name="矩形 4"/>
            <p:cNvSpPr/>
            <p:nvPr/>
          </p:nvSpPr>
          <p:spPr>
            <a:xfrm>
              <a:off x="755640" y="2060640"/>
              <a:ext cx="2016000" cy="79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文本框 8"/>
            <p:cNvSpPr/>
            <p:nvPr/>
          </p:nvSpPr>
          <p:spPr>
            <a:xfrm>
              <a:off x="1162440" y="3114360"/>
              <a:ext cx="124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文本框 10"/>
            <p:cNvSpPr/>
            <p:nvPr/>
          </p:nvSpPr>
          <p:spPr>
            <a:xfrm>
              <a:off x="2873880" y="2228040"/>
              <a:ext cx="124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组合 14"/>
          <p:cNvGrpSpPr/>
          <p:nvPr/>
        </p:nvGrpSpPr>
        <p:grpSpPr>
          <a:xfrm>
            <a:off x="5715000" y="1700280"/>
            <a:ext cx="2391840" cy="1643760"/>
            <a:chOff x="5715000" y="1700280"/>
            <a:chExt cx="2391840" cy="1643760"/>
          </a:xfrm>
        </p:grpSpPr>
        <p:sp>
          <p:nvSpPr>
            <p:cNvPr id="1311" name="矩形 6"/>
            <p:cNvSpPr/>
            <p:nvPr/>
          </p:nvSpPr>
          <p:spPr>
            <a:xfrm>
              <a:off x="5715000" y="1700280"/>
              <a:ext cx="1080000" cy="108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文本框 9"/>
            <p:cNvSpPr/>
            <p:nvPr/>
          </p:nvSpPr>
          <p:spPr>
            <a:xfrm>
              <a:off x="5803560" y="2884320"/>
              <a:ext cx="124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文本框 11"/>
            <p:cNvSpPr/>
            <p:nvPr/>
          </p:nvSpPr>
          <p:spPr>
            <a:xfrm>
              <a:off x="6858360" y="2091960"/>
              <a:ext cx="12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文本框 15"/>
          <p:cNvSpPr/>
          <p:nvPr/>
        </p:nvSpPr>
        <p:spPr>
          <a:xfrm>
            <a:off x="506520" y="3970440"/>
            <a:ext cx="36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+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1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文本框 16"/>
          <p:cNvSpPr/>
          <p:nvPr/>
        </p:nvSpPr>
        <p:spPr>
          <a:xfrm>
            <a:off x="5484960" y="3970440"/>
            <a:ext cx="27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3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11160" y="152280"/>
            <a:ext cx="3751200" cy="525600"/>
            <a:chOff x="-11160" y="152280"/>
            <a:chExt cx="375120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7400" y="152280"/>
              <a:ext cx="3572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11160" y="248040"/>
              <a:ext cx="498600" cy="272160"/>
              <a:chOff x="-11160" y="248040"/>
              <a:chExt cx="498600" cy="272160"/>
            </a:xfrm>
          </p:grpSpPr>
          <p:sp>
            <p:nvSpPr>
              <p:cNvPr id="1001" name="椭圆 2"/>
              <p:cNvSpPr/>
              <p:nvPr/>
            </p:nvSpPr>
            <p:spPr>
              <a:xfrm rot="16200000">
                <a:off x="244440" y="407160"/>
                <a:ext cx="10080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040" y="360000"/>
                <a:ext cx="221400" cy="1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4440" y="278280"/>
                <a:ext cx="10080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6040" y="260640"/>
                <a:ext cx="221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1160" y="374400"/>
                <a:ext cx="42336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1160" y="349560"/>
                <a:ext cx="42336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1160" y="272880"/>
                <a:ext cx="42336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1160" y="248040"/>
                <a:ext cx="423360" cy="87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2927520" y="974880"/>
            <a:ext cx="3987720" cy="1008000"/>
          </a:xfrm>
          <a:prstGeom prst="wedgeRoundRectCallout">
            <a:avLst>
              <a:gd name="adj1" fmla="val 57203"/>
              <a:gd name="adj2" fmla="val 34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节课我们重点复习长方形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7"/>
          <p:cNvSpPr/>
          <p:nvPr/>
        </p:nvSpPr>
        <p:spPr>
          <a:xfrm>
            <a:off x="1873080" y="2638440"/>
            <a:ext cx="4140360" cy="1286280"/>
          </a:xfrm>
          <a:prstGeom prst="wedgeRoundRectCallout">
            <a:avLst>
              <a:gd name="adj1" fmla="val -55439"/>
              <a:gd name="adj2" fmla="val -2599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习长方形和正方形这个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知道了什么是四边形，还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道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27"/>
          <p:cNvSpPr/>
          <p:nvPr/>
        </p:nvSpPr>
        <p:spPr>
          <a:xfrm>
            <a:off x="3951360" y="4267080"/>
            <a:ext cx="2963880" cy="891000"/>
          </a:xfrm>
          <a:prstGeom prst="wedgeRoundRectCallout">
            <a:avLst>
              <a:gd name="adj1" fmla="val 56958"/>
              <a:gd name="adj2" fmla="val 141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可以把学到的知识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作业纸上整理一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1" descr="]@P`{@U$K{A7A$9804YYMFT"/>
          <p:cNvPicPr/>
          <p:nvPr/>
        </p:nvPicPr>
        <p:blipFill>
          <a:blip r:embed="rId8"/>
          <a:stretch/>
        </p:blipFill>
        <p:spPr>
          <a:xfrm>
            <a:off x="96840" y="296856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4" descr="6)5][}VZ%@FXJ)FA]TI76$O"/>
          <p:cNvPicPr/>
          <p:nvPr/>
        </p:nvPicPr>
        <p:blipFill>
          <a:blip r:embed="rId9"/>
          <a:stretch/>
        </p:blipFill>
        <p:spPr>
          <a:xfrm flipH="1">
            <a:off x="7283520" y="677880"/>
            <a:ext cx="1503360" cy="16016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6" descr="AG]4}@PH9UX]GS)L_H5_`K9"/>
          <p:cNvPicPr/>
          <p:nvPr/>
        </p:nvPicPr>
        <p:blipFill>
          <a:blip r:embed="rId10"/>
          <a:stretch/>
        </p:blipFill>
        <p:spPr>
          <a:xfrm flipH="1">
            <a:off x="7429680" y="4040280"/>
            <a:ext cx="74736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0" y="101520"/>
            <a:ext cx="3646440" cy="525600"/>
            <a:chOff x="0" y="101520"/>
            <a:chExt cx="3646440" cy="525600"/>
          </a:xfrm>
        </p:grpSpPr>
        <p:pic>
          <p:nvPicPr>
            <p:cNvPr id="10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101520"/>
              <a:ext cx="3473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97280"/>
              <a:ext cx="484560" cy="271800"/>
              <a:chOff x="0" y="197280"/>
              <a:chExt cx="484560" cy="271800"/>
            </a:xfrm>
          </p:grpSpPr>
          <p:sp>
            <p:nvSpPr>
              <p:cNvPr id="1018" name="椭圆 2"/>
              <p:cNvSpPr/>
              <p:nvPr/>
            </p:nvSpPr>
            <p:spPr>
              <a:xfrm rot="16200000">
                <a:off x="253080" y="356760"/>
                <a:ext cx="100440" cy="12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960" y="312120"/>
                <a:ext cx="219600" cy="10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53080" y="228240"/>
                <a:ext cx="100440" cy="12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960" y="210240"/>
                <a:ext cx="219600" cy="10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6520"/>
                <a:ext cx="409320" cy="9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1320"/>
                <a:ext cx="409320" cy="9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2480"/>
                <a:ext cx="409320" cy="9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409320" cy="9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6" name="AutoShape 27"/>
          <p:cNvSpPr/>
          <p:nvPr/>
        </p:nvSpPr>
        <p:spPr>
          <a:xfrm>
            <a:off x="3143160" y="1335240"/>
            <a:ext cx="3889440" cy="555480"/>
          </a:xfrm>
          <a:prstGeom prst="wedgeRoundRectCallout">
            <a:avLst>
              <a:gd name="adj1" fmla="val 56407"/>
              <a:gd name="adj2" fmla="val 417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长方形和正方形有什么特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27"/>
          <p:cNvSpPr/>
          <p:nvPr/>
        </p:nvSpPr>
        <p:spPr>
          <a:xfrm>
            <a:off x="1936800" y="2600280"/>
            <a:ext cx="2978280" cy="891000"/>
          </a:xfrm>
          <a:prstGeom prst="wedgeRoundRectCallout">
            <a:avLst>
              <a:gd name="adj1" fmla="val -56921"/>
              <a:gd name="adj2" fmla="val 39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边形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条直的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7"/>
          <p:cNvSpPr/>
          <p:nvPr/>
        </p:nvSpPr>
        <p:spPr>
          <a:xfrm>
            <a:off x="2832120" y="4573440"/>
            <a:ext cx="4079880" cy="1286280"/>
          </a:xfrm>
          <a:prstGeom prst="wedgeRoundRectCallout">
            <a:avLst>
              <a:gd name="adj1" fmla="val 55523"/>
              <a:gd name="adj2" fmla="val -1357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长方形和正方形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直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长方形的对边相等，正方形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条边都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1" descr="]@P`{@U$K{A7A$9804YYMFT"/>
          <p:cNvPicPr/>
          <p:nvPr/>
        </p:nvPicPr>
        <p:blipFill>
          <a:blip r:embed="rId8"/>
          <a:stretch/>
        </p:blipFill>
        <p:spPr>
          <a:xfrm>
            <a:off x="96840" y="296856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" descr="6)5][}VZ%@FXJ)FA]TI76$O"/>
          <p:cNvPicPr/>
          <p:nvPr/>
        </p:nvPicPr>
        <p:blipFill>
          <a:blip r:embed="rId9"/>
          <a:stretch/>
        </p:blipFill>
        <p:spPr>
          <a:xfrm flipH="1">
            <a:off x="7500960" y="1162080"/>
            <a:ext cx="1501920" cy="16016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6" descr="AG]4}@PH9UX]GS)L_H5_`K9"/>
          <p:cNvPicPr/>
          <p:nvPr/>
        </p:nvPicPr>
        <p:blipFill>
          <a:blip r:embed="rId10"/>
          <a:stretch/>
        </p:blipFill>
        <p:spPr>
          <a:xfrm flipH="1">
            <a:off x="7500600" y="4502160"/>
            <a:ext cx="817560" cy="14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0" y="101520"/>
            <a:ext cx="4086360" cy="525600"/>
            <a:chOff x="0" y="101520"/>
            <a:chExt cx="4086360" cy="525600"/>
          </a:xfrm>
        </p:grpSpPr>
        <p:pic>
          <p:nvPicPr>
            <p:cNvPr id="103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96920" y="101520"/>
              <a:ext cx="38894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0" y="197280"/>
              <a:ext cx="544320" cy="272160"/>
              <a:chOff x="0" y="197280"/>
              <a:chExt cx="544320" cy="272160"/>
            </a:xfrm>
          </p:grpSpPr>
          <p:sp>
            <p:nvSpPr>
              <p:cNvPr id="1035" name="椭圆 2"/>
              <p:cNvSpPr/>
              <p:nvPr/>
            </p:nvSpPr>
            <p:spPr>
              <a:xfrm rot="16200000">
                <a:off x="262440" y="354240"/>
                <a:ext cx="102240" cy="12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520" y="301320"/>
                <a:ext cx="226800" cy="9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29"/>
              <p:cNvSpPr/>
              <p:nvPr/>
            </p:nvSpPr>
            <p:spPr>
              <a:xfrm rot="16200000">
                <a:off x="262440" y="223560"/>
                <a:ext cx="102240" cy="12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520" y="209160"/>
                <a:ext cx="226800" cy="9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14640"/>
                <a:ext cx="467640" cy="8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1600"/>
                <a:ext cx="467640" cy="8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0320"/>
                <a:ext cx="467640" cy="8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467640" cy="8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3" name="AutoShape 27"/>
          <p:cNvSpPr/>
          <p:nvPr/>
        </p:nvSpPr>
        <p:spPr>
          <a:xfrm>
            <a:off x="1901880" y="2220840"/>
            <a:ext cx="2184480" cy="1286280"/>
          </a:xfrm>
          <a:prstGeom prst="wedgeRoundRectCallout">
            <a:avLst>
              <a:gd name="adj1" fmla="val -61615"/>
              <a:gd name="adj2" fmla="val -1038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封闭图形一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的长度，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周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27"/>
          <p:cNvSpPr/>
          <p:nvPr/>
        </p:nvSpPr>
        <p:spPr>
          <a:xfrm>
            <a:off x="3376440" y="4311720"/>
            <a:ext cx="4091040" cy="891000"/>
          </a:xfrm>
          <a:prstGeom prst="wedgeRoundRectCallout">
            <a:avLst>
              <a:gd name="adj1" fmla="val -55398"/>
              <a:gd name="adj2" fmla="val -2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长方形的周长＝（长＋宽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方形的周长＝边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27"/>
          <p:cNvSpPr/>
          <p:nvPr/>
        </p:nvSpPr>
        <p:spPr>
          <a:xfrm>
            <a:off x="4559400" y="998640"/>
            <a:ext cx="2668320" cy="923760"/>
          </a:xfrm>
          <a:prstGeom prst="wedgeRoundRectCallout">
            <a:avLst>
              <a:gd name="adj1" fmla="val 56842"/>
              <a:gd name="adj2" fmla="val 4226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长方形和正方形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周长如何计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图片 1" descr="]@P`{@U$K{A7A$9804YYMFT"/>
          <p:cNvPicPr/>
          <p:nvPr/>
        </p:nvPicPr>
        <p:blipFill>
          <a:blip r:embed="rId8"/>
          <a:stretch/>
        </p:blipFill>
        <p:spPr>
          <a:xfrm>
            <a:off x="117360" y="2081160"/>
            <a:ext cx="1498680" cy="190188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4" descr="6)5][}VZ%@FXJ)FA]TI76$O"/>
          <p:cNvPicPr/>
          <p:nvPr/>
        </p:nvPicPr>
        <p:blipFill>
          <a:blip r:embed="rId9"/>
          <a:stretch/>
        </p:blipFill>
        <p:spPr>
          <a:xfrm flipH="1">
            <a:off x="7531200" y="998640"/>
            <a:ext cx="1503360" cy="160164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6" descr="AG]4}@PH9UX]GS)L_H5_`K9"/>
          <p:cNvPicPr/>
          <p:nvPr/>
        </p:nvPicPr>
        <p:blipFill>
          <a:blip r:embed="rId10"/>
          <a:stretch/>
        </p:blipFill>
        <p:spPr>
          <a:xfrm>
            <a:off x="2035080" y="4203720"/>
            <a:ext cx="93996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2"/>
          <p:cNvGrpSpPr/>
          <p:nvPr/>
        </p:nvGrpSpPr>
        <p:grpSpPr>
          <a:xfrm>
            <a:off x="0" y="101520"/>
            <a:ext cx="3871800" cy="525600"/>
            <a:chOff x="0" y="101520"/>
            <a:chExt cx="3871800" cy="525600"/>
          </a:xfrm>
        </p:grpSpPr>
        <p:pic>
          <p:nvPicPr>
            <p:cNvPr id="105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040" y="101520"/>
              <a:ext cx="3686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4"/>
            <p:cNvGrpSpPr/>
            <p:nvPr/>
          </p:nvGrpSpPr>
          <p:grpSpPr>
            <a:xfrm>
              <a:off x="0" y="197280"/>
              <a:ext cx="515160" cy="271800"/>
              <a:chOff x="0" y="197280"/>
              <a:chExt cx="515160" cy="271800"/>
            </a:xfrm>
          </p:grpSpPr>
          <p:sp>
            <p:nvSpPr>
              <p:cNvPr id="1052" name="椭圆 2"/>
              <p:cNvSpPr/>
              <p:nvPr/>
            </p:nvSpPr>
            <p:spPr>
              <a:xfrm rot="16200000">
                <a:off x="258120" y="355320"/>
                <a:ext cx="1011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600" y="306360"/>
                <a:ext cx="223560" cy="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椭圆 29"/>
              <p:cNvSpPr/>
              <p:nvPr/>
            </p:nvSpPr>
            <p:spPr>
              <a:xfrm rot="16200000">
                <a:off x="258120" y="225360"/>
                <a:ext cx="1011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91600" y="209520"/>
                <a:ext cx="22356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0400"/>
                <a:ext cx="43920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5920"/>
                <a:ext cx="43920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1400"/>
                <a:ext cx="43920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439200" cy="8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0" name="Rectangle 12"/>
          <p:cNvSpPr/>
          <p:nvPr/>
        </p:nvSpPr>
        <p:spPr>
          <a:xfrm>
            <a:off x="85680" y="1216080"/>
            <a:ext cx="403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李叔叔靠墙角用篱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了一块长方形地用来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鸡。篱笆长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27"/>
          <p:cNvSpPr/>
          <p:nvPr/>
        </p:nvSpPr>
        <p:spPr>
          <a:xfrm>
            <a:off x="2411280" y="4722840"/>
            <a:ext cx="4054680" cy="891000"/>
          </a:xfrm>
          <a:prstGeom prst="wedgeRoundRectCallout">
            <a:avLst>
              <a:gd name="adj1" fmla="val -54851"/>
              <a:gd name="adj2" fmla="val -2181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一定要注意：篱笆的长度只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长方形的两条边的长度之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图片 6" descr="AG]4}@PH9UX]GS)L_H5_`K9"/>
          <p:cNvPicPr/>
          <p:nvPr/>
        </p:nvPicPr>
        <p:blipFill>
          <a:blip r:embed="rId8"/>
          <a:stretch/>
        </p:blipFill>
        <p:spPr>
          <a:xfrm>
            <a:off x="1127160" y="4141800"/>
            <a:ext cx="941400" cy="1717560"/>
          </a:xfrm>
          <a:prstGeom prst="rect">
            <a:avLst/>
          </a:prstGeom>
          <a:ln w="0">
            <a:noFill/>
          </a:ln>
        </p:spPr>
      </p:pic>
      <p:grpSp>
        <p:nvGrpSpPr>
          <p:cNvPr id="1063" name="组合 22"/>
          <p:cNvGrpSpPr/>
          <p:nvPr/>
        </p:nvGrpSpPr>
        <p:grpSpPr>
          <a:xfrm>
            <a:off x="3686040" y="1644120"/>
            <a:ext cx="3019680" cy="1867320"/>
            <a:chOff x="3686040" y="1644120"/>
            <a:chExt cx="3019680" cy="1867320"/>
          </a:xfrm>
        </p:grpSpPr>
        <p:pic>
          <p:nvPicPr>
            <p:cNvPr id="1064" name="图片 1" descr="2CH2]Y0DG`E8R35DC](3NF5"/>
            <p:cNvPicPr/>
            <p:nvPr/>
          </p:nvPicPr>
          <p:blipFill>
            <a:blip r:embed="rId9"/>
            <a:stretch/>
          </p:blipFill>
          <p:spPr>
            <a:xfrm>
              <a:off x="4774320" y="2420280"/>
              <a:ext cx="227520" cy="27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5" name="组合 13"/>
            <p:cNvGrpSpPr/>
            <p:nvPr/>
          </p:nvGrpSpPr>
          <p:grpSpPr>
            <a:xfrm>
              <a:off x="3686040" y="1644120"/>
              <a:ext cx="3019680" cy="1867320"/>
              <a:chOff x="3686040" y="1644120"/>
              <a:chExt cx="3019680" cy="1867320"/>
            </a:xfrm>
          </p:grpSpPr>
          <p:pic>
            <p:nvPicPr>
              <p:cNvPr id="1066" name="图片 3" descr="D6D]_XA2)5[LRRO$I6A[_TT"/>
              <p:cNvPicPr/>
              <p:nvPr/>
            </p:nvPicPr>
            <p:blipFill>
              <a:blip r:embed="rId10"/>
              <a:stretch/>
            </p:blipFill>
            <p:spPr>
              <a:xfrm>
                <a:off x="3751200" y="2892600"/>
                <a:ext cx="2772000" cy="61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7" name="图片 8" descr="PGX)2%[_1QL5K}Z4E762)AC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686040" y="1644480"/>
                <a:ext cx="516960" cy="124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8" name="图片 9" descr="PGX)2%[_1QL5K}Z4E762)AC"/>
              <p:cNvPicPr/>
              <p:nvPr/>
            </p:nvPicPr>
            <p:blipFill>
              <a:blip r:embed="rId12"/>
              <a:stretch/>
            </p:blipFill>
            <p:spPr>
              <a:xfrm>
                <a:off x="6188760" y="1644480"/>
                <a:ext cx="516960" cy="124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图片 10" descr="14}_{HV2PW2AH49(KK30L`D"/>
              <p:cNvPicPr/>
              <p:nvPr/>
            </p:nvPicPr>
            <p:blipFill>
              <a:blip r:embed="rId13"/>
              <a:stretch/>
            </p:blipFill>
            <p:spPr>
              <a:xfrm flipH="1" rot="5400000">
                <a:off x="4737960" y="983160"/>
                <a:ext cx="789480" cy="2111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70" name="图片 14" descr="2CH2]Y0DG`E8R35DC](3NF5"/>
            <p:cNvPicPr/>
            <p:nvPr/>
          </p:nvPicPr>
          <p:blipFill>
            <a:blip r:embed="rId14"/>
            <a:stretch/>
          </p:blipFill>
          <p:spPr>
            <a:xfrm>
              <a:off x="4202640" y="2527920"/>
              <a:ext cx="227520" cy="2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图片 15" descr="2CH2]Y0DG`E8R35DC](3NF5"/>
            <p:cNvPicPr/>
            <p:nvPr/>
          </p:nvPicPr>
          <p:blipFill>
            <a:blip r:embed="rId15"/>
            <a:stretch/>
          </p:blipFill>
          <p:spPr>
            <a:xfrm>
              <a:off x="4430520" y="2621520"/>
              <a:ext cx="22752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图片 16" descr="2CH2]Y0DG`E8R35DC](3NF5"/>
            <p:cNvPicPr/>
            <p:nvPr/>
          </p:nvPicPr>
          <p:blipFill>
            <a:blip r:embed="rId16"/>
            <a:stretch/>
          </p:blipFill>
          <p:spPr>
            <a:xfrm>
              <a:off x="5184720" y="2527920"/>
              <a:ext cx="227520" cy="2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图片 17" descr="2CH2]Y0DG`E8R35DC](3NF5"/>
            <p:cNvPicPr/>
            <p:nvPr/>
          </p:nvPicPr>
          <p:blipFill>
            <a:blip r:embed="rId17"/>
            <a:stretch/>
          </p:blipFill>
          <p:spPr>
            <a:xfrm>
              <a:off x="5614920" y="2691360"/>
              <a:ext cx="22752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图片 18" descr="2CH2]Y0DG`E8R35DC](3NF5"/>
            <p:cNvPicPr/>
            <p:nvPr/>
          </p:nvPicPr>
          <p:blipFill>
            <a:blip r:embed="rId18"/>
            <a:stretch/>
          </p:blipFill>
          <p:spPr>
            <a:xfrm>
              <a:off x="5686920" y="2420280"/>
              <a:ext cx="22752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图片 19" descr="2CH2]Y0DG`E8R35DC](3NF5"/>
            <p:cNvPicPr/>
            <p:nvPr/>
          </p:nvPicPr>
          <p:blipFill>
            <a:blip r:embed="rId19"/>
            <a:stretch/>
          </p:blipFill>
          <p:spPr>
            <a:xfrm>
              <a:off x="5961240" y="2621520"/>
              <a:ext cx="227520" cy="27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6" name="组合 25"/>
          <p:cNvGrpSpPr/>
          <p:nvPr/>
        </p:nvGrpSpPr>
        <p:grpSpPr>
          <a:xfrm>
            <a:off x="6107040" y="517680"/>
            <a:ext cx="2712960" cy="3127320"/>
            <a:chOff x="6107040" y="517680"/>
            <a:chExt cx="2712960" cy="3127320"/>
          </a:xfrm>
        </p:grpSpPr>
        <p:pic>
          <p:nvPicPr>
            <p:cNvPr id="1077" name="图片 21" descr="2H}X(L(]QYGI)}W9D5VJEGS"/>
            <p:cNvPicPr/>
            <p:nvPr/>
          </p:nvPicPr>
          <p:blipFill>
            <a:blip r:embed="rId20"/>
            <a:stretch/>
          </p:blipFill>
          <p:spPr>
            <a:xfrm flipH="1">
              <a:off x="7553160" y="1680840"/>
              <a:ext cx="126612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图片 23" descr="R6PEPN8X6D$W%S4WDXFKZF2"/>
            <p:cNvPicPr/>
            <p:nvPr/>
          </p:nvPicPr>
          <p:blipFill>
            <a:blip r:embed="rId21"/>
            <a:stretch/>
          </p:blipFill>
          <p:spPr>
            <a:xfrm>
              <a:off x="6107040" y="517680"/>
              <a:ext cx="2712960" cy="13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文本框 24"/>
            <p:cNvSpPr/>
            <p:nvPr/>
          </p:nvSpPr>
          <p:spPr>
            <a:xfrm>
              <a:off x="6383880" y="652680"/>
              <a:ext cx="2336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块地长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，宽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"/>
          <p:cNvGrpSpPr/>
          <p:nvPr/>
        </p:nvGrpSpPr>
        <p:grpSpPr>
          <a:xfrm>
            <a:off x="0" y="101520"/>
            <a:ext cx="3862440" cy="525600"/>
            <a:chOff x="0" y="101520"/>
            <a:chExt cx="3862440" cy="525600"/>
          </a:xfrm>
        </p:grpSpPr>
        <p:pic>
          <p:nvPicPr>
            <p:cNvPr id="108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4680" y="101520"/>
              <a:ext cx="3677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197280"/>
              <a:ext cx="513720" cy="271800"/>
              <a:chOff x="0" y="197280"/>
              <a:chExt cx="513720" cy="271800"/>
            </a:xfrm>
          </p:grpSpPr>
          <p:sp>
            <p:nvSpPr>
              <p:cNvPr id="1083" name="椭圆 2"/>
              <p:cNvSpPr/>
              <p:nvPr/>
            </p:nvSpPr>
            <p:spPr>
              <a:xfrm rot="16200000">
                <a:off x="257760" y="355320"/>
                <a:ext cx="1011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90520" y="306360"/>
                <a:ext cx="22320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29"/>
              <p:cNvSpPr/>
              <p:nvPr/>
            </p:nvSpPr>
            <p:spPr>
              <a:xfrm rot="16200000">
                <a:off x="257760" y="225720"/>
                <a:ext cx="10116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520" y="209880"/>
                <a:ext cx="2232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0400"/>
                <a:ext cx="43776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6280"/>
                <a:ext cx="43776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1400"/>
                <a:ext cx="437760" cy="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437760" cy="8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AutoShape 27"/>
          <p:cNvSpPr/>
          <p:nvPr/>
        </p:nvSpPr>
        <p:spPr>
          <a:xfrm>
            <a:off x="5003640" y="549360"/>
            <a:ext cx="2776680" cy="519120"/>
          </a:xfrm>
          <a:prstGeom prst="wedgeRoundRectCallout">
            <a:avLst>
              <a:gd name="adj1" fmla="val 43194"/>
              <a:gd name="adj2" fmla="val 8180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怎样想这个问题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56"/>
          <p:cNvGrpSpPr/>
          <p:nvPr/>
        </p:nvGrpSpPr>
        <p:grpSpPr>
          <a:xfrm>
            <a:off x="1047600" y="1560600"/>
            <a:ext cx="6505560" cy="1798560"/>
            <a:chOff x="1047600" y="1560600"/>
            <a:chExt cx="6505560" cy="1798560"/>
          </a:xfrm>
        </p:grpSpPr>
        <p:pic>
          <p:nvPicPr>
            <p:cNvPr id="1093" name="Picture 30" descr="1178"/>
            <p:cNvPicPr/>
            <p:nvPr/>
          </p:nvPicPr>
          <p:blipFill>
            <a:blip r:embed="rId8"/>
            <a:stretch/>
          </p:blipFill>
          <p:spPr>
            <a:xfrm>
              <a:off x="1047600" y="1560600"/>
              <a:ext cx="18064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Rectangle 31"/>
            <p:cNvSpPr/>
            <p:nvPr/>
          </p:nvSpPr>
          <p:spPr>
            <a:xfrm>
              <a:off x="3115440" y="28717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（单位：厘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32"/>
            <p:cNvSpPr/>
            <p:nvPr/>
          </p:nvSpPr>
          <p:spPr>
            <a:xfrm>
              <a:off x="2981160" y="177660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左图中小正方形的边长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厘米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正方形的周长是多少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AutoShape 27"/>
          <p:cNvSpPr/>
          <p:nvPr/>
        </p:nvSpPr>
        <p:spPr>
          <a:xfrm>
            <a:off x="5486400" y="3152880"/>
            <a:ext cx="2631960" cy="1286280"/>
          </a:xfrm>
          <a:prstGeom prst="wedgeRoundRectCallout">
            <a:avLst>
              <a:gd name="adj1" fmla="val 31699"/>
              <a:gd name="adj2" fmla="val 6491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如果知道大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的边长就能计算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的周长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27"/>
          <p:cNvSpPr/>
          <p:nvPr/>
        </p:nvSpPr>
        <p:spPr>
          <a:xfrm>
            <a:off x="1870200" y="4056120"/>
            <a:ext cx="3133440" cy="891000"/>
          </a:xfrm>
          <a:prstGeom prst="wedgeRoundRectCallout">
            <a:avLst>
              <a:gd name="adj1" fmla="val -56879"/>
              <a:gd name="adj2" fmla="val -22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×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厘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图片 1" descr="]@P`{@U$K{A7A$9804YYMFT"/>
          <p:cNvPicPr/>
          <p:nvPr/>
        </p:nvPicPr>
        <p:blipFill>
          <a:blip r:embed="rId9"/>
          <a:stretch/>
        </p:blipFill>
        <p:spPr>
          <a:xfrm>
            <a:off x="0" y="4205160"/>
            <a:ext cx="1496880" cy="190188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4" descr="6)5][}VZ%@FXJ)FA]TI76$O"/>
          <p:cNvPicPr/>
          <p:nvPr/>
        </p:nvPicPr>
        <p:blipFill>
          <a:blip r:embed="rId10"/>
          <a:stretch/>
        </p:blipFill>
        <p:spPr>
          <a:xfrm flipH="1">
            <a:off x="7553160" y="1477800"/>
            <a:ext cx="1503360" cy="160200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6" descr="AG]4}@PH9UX]GS)L_H5_`K9"/>
          <p:cNvPicPr/>
          <p:nvPr/>
        </p:nvPicPr>
        <p:blipFill>
          <a:blip r:embed="rId11"/>
          <a:stretch/>
        </p:blipFill>
        <p:spPr>
          <a:xfrm flipH="1">
            <a:off x="7943400" y="4519440"/>
            <a:ext cx="939960" cy="17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2944800" cy="525600"/>
            <a:chOff x="0" y="101520"/>
            <a:chExt cx="294480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3920" y="101520"/>
              <a:ext cx="281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7280"/>
              <a:ext cx="389160" cy="272160"/>
              <a:chOff x="0" y="197280"/>
              <a:chExt cx="389160" cy="272160"/>
            </a:xfrm>
          </p:grpSpPr>
          <p:sp>
            <p:nvSpPr>
              <p:cNvPr id="1104" name="椭圆 2"/>
              <p:cNvSpPr/>
              <p:nvPr/>
            </p:nvSpPr>
            <p:spPr>
              <a:xfrm rot="16200000">
                <a:off x="234360" y="36324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960" y="33408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34360" y="23940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960" y="21276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17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1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5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矩形 3"/>
          <p:cNvSpPr/>
          <p:nvPr/>
        </p:nvSpPr>
        <p:spPr>
          <a:xfrm>
            <a:off x="165096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8"/>
          <p:cNvSpPr/>
          <p:nvPr/>
        </p:nvSpPr>
        <p:spPr>
          <a:xfrm>
            <a:off x="1935000" y="19908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9"/>
          <p:cNvSpPr/>
          <p:nvPr/>
        </p:nvSpPr>
        <p:spPr>
          <a:xfrm>
            <a:off x="165096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10"/>
          <p:cNvSpPr/>
          <p:nvPr/>
        </p:nvSpPr>
        <p:spPr>
          <a:xfrm>
            <a:off x="505944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4"/>
          <p:cNvSpPr/>
          <p:nvPr/>
        </p:nvSpPr>
        <p:spPr>
          <a:xfrm>
            <a:off x="2219400" y="19908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5"/>
          <p:cNvSpPr/>
          <p:nvPr/>
        </p:nvSpPr>
        <p:spPr>
          <a:xfrm>
            <a:off x="250344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6"/>
          <p:cNvSpPr/>
          <p:nvPr/>
        </p:nvSpPr>
        <p:spPr>
          <a:xfrm>
            <a:off x="2787480" y="19908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7"/>
          <p:cNvSpPr/>
          <p:nvPr/>
        </p:nvSpPr>
        <p:spPr>
          <a:xfrm>
            <a:off x="3070080" y="19908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18"/>
          <p:cNvSpPr/>
          <p:nvPr/>
        </p:nvSpPr>
        <p:spPr>
          <a:xfrm>
            <a:off x="335448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19"/>
          <p:cNvSpPr/>
          <p:nvPr/>
        </p:nvSpPr>
        <p:spPr>
          <a:xfrm>
            <a:off x="363852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矩形 20"/>
          <p:cNvSpPr/>
          <p:nvPr/>
        </p:nvSpPr>
        <p:spPr>
          <a:xfrm>
            <a:off x="3922560" y="19908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21"/>
          <p:cNvSpPr/>
          <p:nvPr/>
        </p:nvSpPr>
        <p:spPr>
          <a:xfrm>
            <a:off x="420696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22"/>
          <p:cNvSpPr/>
          <p:nvPr/>
        </p:nvSpPr>
        <p:spPr>
          <a:xfrm>
            <a:off x="449100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23"/>
          <p:cNvSpPr/>
          <p:nvPr/>
        </p:nvSpPr>
        <p:spPr>
          <a:xfrm>
            <a:off x="4775040" y="19908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24"/>
          <p:cNvSpPr/>
          <p:nvPr/>
        </p:nvSpPr>
        <p:spPr>
          <a:xfrm>
            <a:off x="505944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25"/>
          <p:cNvSpPr/>
          <p:nvPr/>
        </p:nvSpPr>
        <p:spPr>
          <a:xfrm>
            <a:off x="5343480" y="19908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26"/>
          <p:cNvSpPr/>
          <p:nvPr/>
        </p:nvSpPr>
        <p:spPr>
          <a:xfrm>
            <a:off x="562608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27"/>
          <p:cNvSpPr/>
          <p:nvPr/>
        </p:nvSpPr>
        <p:spPr>
          <a:xfrm>
            <a:off x="5910120" y="19908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28"/>
          <p:cNvSpPr/>
          <p:nvPr/>
        </p:nvSpPr>
        <p:spPr>
          <a:xfrm>
            <a:off x="619452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35"/>
          <p:cNvSpPr/>
          <p:nvPr/>
        </p:nvSpPr>
        <p:spPr>
          <a:xfrm>
            <a:off x="6478560" y="19908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6"/>
          <p:cNvSpPr/>
          <p:nvPr/>
        </p:nvSpPr>
        <p:spPr>
          <a:xfrm>
            <a:off x="1935000" y="23479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矩形 37"/>
          <p:cNvSpPr/>
          <p:nvPr/>
        </p:nvSpPr>
        <p:spPr>
          <a:xfrm>
            <a:off x="5343480" y="23479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41"/>
          <p:cNvSpPr/>
          <p:nvPr/>
        </p:nvSpPr>
        <p:spPr>
          <a:xfrm>
            <a:off x="2219400" y="23479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44"/>
          <p:cNvSpPr/>
          <p:nvPr/>
        </p:nvSpPr>
        <p:spPr>
          <a:xfrm>
            <a:off x="562608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45"/>
          <p:cNvSpPr/>
          <p:nvPr/>
        </p:nvSpPr>
        <p:spPr>
          <a:xfrm>
            <a:off x="5910120" y="23479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矩形 46"/>
          <p:cNvSpPr/>
          <p:nvPr/>
        </p:nvSpPr>
        <p:spPr>
          <a:xfrm>
            <a:off x="619452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52"/>
          <p:cNvSpPr/>
          <p:nvPr/>
        </p:nvSpPr>
        <p:spPr>
          <a:xfrm>
            <a:off x="363852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53"/>
          <p:cNvSpPr/>
          <p:nvPr/>
        </p:nvSpPr>
        <p:spPr>
          <a:xfrm>
            <a:off x="3922560" y="23479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54"/>
          <p:cNvSpPr/>
          <p:nvPr/>
        </p:nvSpPr>
        <p:spPr>
          <a:xfrm>
            <a:off x="420696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5"/>
          <p:cNvSpPr/>
          <p:nvPr/>
        </p:nvSpPr>
        <p:spPr>
          <a:xfrm>
            <a:off x="449100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58"/>
          <p:cNvSpPr/>
          <p:nvPr/>
        </p:nvSpPr>
        <p:spPr>
          <a:xfrm>
            <a:off x="647856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61"/>
          <p:cNvSpPr/>
          <p:nvPr/>
        </p:nvSpPr>
        <p:spPr>
          <a:xfrm>
            <a:off x="165096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62"/>
          <p:cNvSpPr/>
          <p:nvPr/>
        </p:nvSpPr>
        <p:spPr>
          <a:xfrm>
            <a:off x="1935000" y="27036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63"/>
          <p:cNvSpPr/>
          <p:nvPr/>
        </p:nvSpPr>
        <p:spPr>
          <a:xfrm>
            <a:off x="165096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64"/>
          <p:cNvSpPr/>
          <p:nvPr/>
        </p:nvSpPr>
        <p:spPr>
          <a:xfrm>
            <a:off x="505944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65"/>
          <p:cNvSpPr/>
          <p:nvPr/>
        </p:nvSpPr>
        <p:spPr>
          <a:xfrm>
            <a:off x="2219400" y="27036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矩形 66"/>
          <p:cNvSpPr/>
          <p:nvPr/>
        </p:nvSpPr>
        <p:spPr>
          <a:xfrm>
            <a:off x="2503440" y="2703600"/>
            <a:ext cx="2840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矩形 67"/>
          <p:cNvSpPr/>
          <p:nvPr/>
        </p:nvSpPr>
        <p:spPr>
          <a:xfrm>
            <a:off x="3354480" y="2347920"/>
            <a:ext cx="28404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68"/>
          <p:cNvSpPr/>
          <p:nvPr/>
        </p:nvSpPr>
        <p:spPr>
          <a:xfrm>
            <a:off x="3070080" y="2703600"/>
            <a:ext cx="2844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69"/>
          <p:cNvSpPr/>
          <p:nvPr/>
        </p:nvSpPr>
        <p:spPr>
          <a:xfrm>
            <a:off x="3354480" y="2703600"/>
            <a:ext cx="2840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70"/>
          <p:cNvSpPr/>
          <p:nvPr/>
        </p:nvSpPr>
        <p:spPr>
          <a:xfrm>
            <a:off x="363852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71"/>
          <p:cNvSpPr/>
          <p:nvPr/>
        </p:nvSpPr>
        <p:spPr>
          <a:xfrm>
            <a:off x="3922560" y="27036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72"/>
          <p:cNvSpPr/>
          <p:nvPr/>
        </p:nvSpPr>
        <p:spPr>
          <a:xfrm>
            <a:off x="420696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73"/>
          <p:cNvSpPr/>
          <p:nvPr/>
        </p:nvSpPr>
        <p:spPr>
          <a:xfrm>
            <a:off x="449100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77"/>
          <p:cNvSpPr/>
          <p:nvPr/>
        </p:nvSpPr>
        <p:spPr>
          <a:xfrm>
            <a:off x="562608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8"/>
          <p:cNvSpPr/>
          <p:nvPr/>
        </p:nvSpPr>
        <p:spPr>
          <a:xfrm>
            <a:off x="5910120" y="27036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9"/>
          <p:cNvSpPr/>
          <p:nvPr/>
        </p:nvSpPr>
        <p:spPr>
          <a:xfrm>
            <a:off x="619452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80"/>
          <p:cNvSpPr/>
          <p:nvPr/>
        </p:nvSpPr>
        <p:spPr>
          <a:xfrm>
            <a:off x="647856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81"/>
          <p:cNvSpPr/>
          <p:nvPr/>
        </p:nvSpPr>
        <p:spPr>
          <a:xfrm>
            <a:off x="1935000" y="30607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82"/>
          <p:cNvSpPr/>
          <p:nvPr/>
        </p:nvSpPr>
        <p:spPr>
          <a:xfrm>
            <a:off x="5343480" y="30607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83"/>
          <p:cNvSpPr/>
          <p:nvPr/>
        </p:nvSpPr>
        <p:spPr>
          <a:xfrm>
            <a:off x="2219400" y="30607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84"/>
          <p:cNvSpPr/>
          <p:nvPr/>
        </p:nvSpPr>
        <p:spPr>
          <a:xfrm>
            <a:off x="250344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85"/>
          <p:cNvSpPr/>
          <p:nvPr/>
        </p:nvSpPr>
        <p:spPr>
          <a:xfrm>
            <a:off x="2787480" y="30607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86"/>
          <p:cNvSpPr/>
          <p:nvPr/>
        </p:nvSpPr>
        <p:spPr>
          <a:xfrm>
            <a:off x="562608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87"/>
          <p:cNvSpPr/>
          <p:nvPr/>
        </p:nvSpPr>
        <p:spPr>
          <a:xfrm>
            <a:off x="5910120" y="30607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88"/>
          <p:cNvSpPr/>
          <p:nvPr/>
        </p:nvSpPr>
        <p:spPr>
          <a:xfrm>
            <a:off x="619452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89"/>
          <p:cNvSpPr/>
          <p:nvPr/>
        </p:nvSpPr>
        <p:spPr>
          <a:xfrm>
            <a:off x="3070080" y="30607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90"/>
          <p:cNvSpPr/>
          <p:nvPr/>
        </p:nvSpPr>
        <p:spPr>
          <a:xfrm>
            <a:off x="335448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矩形 91"/>
          <p:cNvSpPr/>
          <p:nvPr/>
        </p:nvSpPr>
        <p:spPr>
          <a:xfrm>
            <a:off x="363852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92"/>
          <p:cNvSpPr/>
          <p:nvPr/>
        </p:nvSpPr>
        <p:spPr>
          <a:xfrm>
            <a:off x="3922560" y="30607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矩形 93"/>
          <p:cNvSpPr/>
          <p:nvPr/>
        </p:nvSpPr>
        <p:spPr>
          <a:xfrm>
            <a:off x="420696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矩形 94"/>
          <p:cNvSpPr/>
          <p:nvPr/>
        </p:nvSpPr>
        <p:spPr>
          <a:xfrm>
            <a:off x="449100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矩形 96"/>
          <p:cNvSpPr/>
          <p:nvPr/>
        </p:nvSpPr>
        <p:spPr>
          <a:xfrm>
            <a:off x="6478560" y="30607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组合 107"/>
          <p:cNvGrpSpPr/>
          <p:nvPr/>
        </p:nvGrpSpPr>
        <p:grpSpPr>
          <a:xfrm>
            <a:off x="1650960" y="3416400"/>
            <a:ext cx="5111280" cy="712800"/>
            <a:chOff x="1650960" y="3416400"/>
            <a:chExt cx="5111280" cy="712800"/>
          </a:xfrm>
        </p:grpSpPr>
        <p:sp>
          <p:nvSpPr>
            <p:cNvPr id="1176" name="矩形 108"/>
            <p:cNvSpPr/>
            <p:nvPr/>
          </p:nvSpPr>
          <p:spPr>
            <a:xfrm>
              <a:off x="165096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矩形 109"/>
            <p:cNvSpPr/>
            <p:nvPr/>
          </p:nvSpPr>
          <p:spPr>
            <a:xfrm>
              <a:off x="193464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矩形 110"/>
            <p:cNvSpPr/>
            <p:nvPr/>
          </p:nvSpPr>
          <p:spPr>
            <a:xfrm>
              <a:off x="165096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矩形 111"/>
            <p:cNvSpPr/>
            <p:nvPr/>
          </p:nvSpPr>
          <p:spPr>
            <a:xfrm>
              <a:off x="505872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矩形 112"/>
            <p:cNvSpPr/>
            <p:nvPr/>
          </p:nvSpPr>
          <p:spPr>
            <a:xfrm>
              <a:off x="221868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矩形 113"/>
            <p:cNvSpPr/>
            <p:nvPr/>
          </p:nvSpPr>
          <p:spPr>
            <a:xfrm>
              <a:off x="250272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114"/>
            <p:cNvSpPr/>
            <p:nvPr/>
          </p:nvSpPr>
          <p:spPr>
            <a:xfrm>
              <a:off x="278676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矩形 115"/>
            <p:cNvSpPr/>
            <p:nvPr/>
          </p:nvSpPr>
          <p:spPr>
            <a:xfrm>
              <a:off x="307080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116"/>
            <p:cNvSpPr/>
            <p:nvPr/>
          </p:nvSpPr>
          <p:spPr>
            <a:xfrm>
              <a:off x="335484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17"/>
            <p:cNvSpPr/>
            <p:nvPr/>
          </p:nvSpPr>
          <p:spPr>
            <a:xfrm>
              <a:off x="363888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18"/>
            <p:cNvSpPr/>
            <p:nvPr/>
          </p:nvSpPr>
          <p:spPr>
            <a:xfrm>
              <a:off x="392292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119"/>
            <p:cNvSpPr/>
            <p:nvPr/>
          </p:nvSpPr>
          <p:spPr>
            <a:xfrm>
              <a:off x="420660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矩形 120"/>
            <p:cNvSpPr/>
            <p:nvPr/>
          </p:nvSpPr>
          <p:spPr>
            <a:xfrm>
              <a:off x="449064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矩形 121"/>
            <p:cNvSpPr/>
            <p:nvPr/>
          </p:nvSpPr>
          <p:spPr>
            <a:xfrm>
              <a:off x="477468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122"/>
            <p:cNvSpPr/>
            <p:nvPr/>
          </p:nvSpPr>
          <p:spPr>
            <a:xfrm>
              <a:off x="505872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矩形 123"/>
            <p:cNvSpPr/>
            <p:nvPr/>
          </p:nvSpPr>
          <p:spPr>
            <a:xfrm>
              <a:off x="534276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矩形 124"/>
            <p:cNvSpPr/>
            <p:nvPr/>
          </p:nvSpPr>
          <p:spPr>
            <a:xfrm>
              <a:off x="562680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125"/>
            <p:cNvSpPr/>
            <p:nvPr/>
          </p:nvSpPr>
          <p:spPr>
            <a:xfrm>
              <a:off x="591084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矩形 126"/>
            <p:cNvSpPr/>
            <p:nvPr/>
          </p:nvSpPr>
          <p:spPr>
            <a:xfrm>
              <a:off x="619488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矩形 127"/>
            <p:cNvSpPr/>
            <p:nvPr/>
          </p:nvSpPr>
          <p:spPr>
            <a:xfrm>
              <a:off x="6478560" y="34164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矩形 128"/>
            <p:cNvSpPr/>
            <p:nvPr/>
          </p:nvSpPr>
          <p:spPr>
            <a:xfrm>
              <a:off x="193464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129"/>
            <p:cNvSpPr/>
            <p:nvPr/>
          </p:nvSpPr>
          <p:spPr>
            <a:xfrm>
              <a:off x="534276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130"/>
            <p:cNvSpPr/>
            <p:nvPr/>
          </p:nvSpPr>
          <p:spPr>
            <a:xfrm>
              <a:off x="221868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矩形 131"/>
            <p:cNvSpPr/>
            <p:nvPr/>
          </p:nvSpPr>
          <p:spPr>
            <a:xfrm>
              <a:off x="250272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132"/>
            <p:cNvSpPr/>
            <p:nvPr/>
          </p:nvSpPr>
          <p:spPr>
            <a:xfrm>
              <a:off x="278676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133"/>
            <p:cNvSpPr/>
            <p:nvPr/>
          </p:nvSpPr>
          <p:spPr>
            <a:xfrm>
              <a:off x="562680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矩形 134"/>
            <p:cNvSpPr/>
            <p:nvPr/>
          </p:nvSpPr>
          <p:spPr>
            <a:xfrm>
              <a:off x="591084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矩形 135"/>
            <p:cNvSpPr/>
            <p:nvPr/>
          </p:nvSpPr>
          <p:spPr>
            <a:xfrm>
              <a:off x="619488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36"/>
            <p:cNvSpPr/>
            <p:nvPr/>
          </p:nvSpPr>
          <p:spPr>
            <a:xfrm>
              <a:off x="307080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37"/>
            <p:cNvSpPr/>
            <p:nvPr/>
          </p:nvSpPr>
          <p:spPr>
            <a:xfrm>
              <a:off x="335484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38"/>
            <p:cNvSpPr/>
            <p:nvPr/>
          </p:nvSpPr>
          <p:spPr>
            <a:xfrm>
              <a:off x="363888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39"/>
            <p:cNvSpPr/>
            <p:nvPr/>
          </p:nvSpPr>
          <p:spPr>
            <a:xfrm>
              <a:off x="392292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40"/>
            <p:cNvSpPr/>
            <p:nvPr/>
          </p:nvSpPr>
          <p:spPr>
            <a:xfrm>
              <a:off x="420660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41"/>
            <p:cNvSpPr/>
            <p:nvPr/>
          </p:nvSpPr>
          <p:spPr>
            <a:xfrm>
              <a:off x="449064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42"/>
            <p:cNvSpPr/>
            <p:nvPr/>
          </p:nvSpPr>
          <p:spPr>
            <a:xfrm>
              <a:off x="477468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143"/>
            <p:cNvSpPr/>
            <p:nvPr/>
          </p:nvSpPr>
          <p:spPr>
            <a:xfrm>
              <a:off x="6478560" y="3772800"/>
              <a:ext cx="283680" cy="35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文本框 145"/>
          <p:cNvSpPr/>
          <p:nvPr/>
        </p:nvSpPr>
        <p:spPr>
          <a:xfrm>
            <a:off x="345960" y="773280"/>
            <a:ext cx="80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下面的格子图中画一个长方形和一个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组合 1"/>
          <p:cNvGrpSpPr/>
          <p:nvPr/>
        </p:nvGrpSpPr>
        <p:grpSpPr>
          <a:xfrm>
            <a:off x="5342040" y="2347920"/>
            <a:ext cx="852120" cy="1068480"/>
            <a:chOff x="5342040" y="2347920"/>
            <a:chExt cx="852120" cy="1068480"/>
          </a:xfrm>
        </p:grpSpPr>
        <p:sp>
          <p:nvSpPr>
            <p:cNvPr id="1214" name="矩形 56"/>
            <p:cNvSpPr/>
            <p:nvPr/>
          </p:nvSpPr>
          <p:spPr>
            <a:xfrm>
              <a:off x="5343120" y="234792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矩形 74"/>
            <p:cNvSpPr/>
            <p:nvPr/>
          </p:nvSpPr>
          <p:spPr>
            <a:xfrm>
              <a:off x="5342040" y="27039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矩形 75"/>
            <p:cNvSpPr/>
            <p:nvPr/>
          </p:nvSpPr>
          <p:spPr>
            <a:xfrm>
              <a:off x="5625720" y="27039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矩形 76"/>
            <p:cNvSpPr/>
            <p:nvPr/>
          </p:nvSpPr>
          <p:spPr>
            <a:xfrm>
              <a:off x="5910480" y="27039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矩形 95"/>
            <p:cNvSpPr/>
            <p:nvPr/>
          </p:nvSpPr>
          <p:spPr>
            <a:xfrm>
              <a:off x="5342040" y="30603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矩形 146"/>
            <p:cNvSpPr/>
            <p:nvPr/>
          </p:nvSpPr>
          <p:spPr>
            <a:xfrm>
              <a:off x="5910480" y="234792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147"/>
            <p:cNvSpPr/>
            <p:nvPr/>
          </p:nvSpPr>
          <p:spPr>
            <a:xfrm>
              <a:off x="5626800" y="234792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148"/>
            <p:cNvSpPr/>
            <p:nvPr/>
          </p:nvSpPr>
          <p:spPr>
            <a:xfrm>
              <a:off x="5626800" y="30603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149"/>
            <p:cNvSpPr/>
            <p:nvPr/>
          </p:nvSpPr>
          <p:spPr>
            <a:xfrm>
              <a:off x="5910480" y="3060360"/>
              <a:ext cx="283680" cy="356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组合 156"/>
          <p:cNvGrpSpPr/>
          <p:nvPr/>
        </p:nvGrpSpPr>
        <p:grpSpPr>
          <a:xfrm>
            <a:off x="2503440" y="2347920"/>
            <a:ext cx="1133640" cy="711360"/>
            <a:chOff x="2503440" y="2347920"/>
            <a:chExt cx="1133640" cy="711360"/>
          </a:xfrm>
        </p:grpSpPr>
        <p:grpSp>
          <p:nvGrpSpPr>
            <p:cNvPr id="1224" name="组合 150"/>
            <p:cNvGrpSpPr/>
            <p:nvPr/>
          </p:nvGrpSpPr>
          <p:grpSpPr>
            <a:xfrm>
              <a:off x="2503440" y="2347920"/>
              <a:ext cx="1133640" cy="355320"/>
              <a:chOff x="2503440" y="2347920"/>
              <a:chExt cx="1133640" cy="355320"/>
            </a:xfrm>
          </p:grpSpPr>
          <p:sp>
            <p:nvSpPr>
              <p:cNvPr id="1225" name="矩形 42"/>
              <p:cNvSpPr/>
              <p:nvPr/>
            </p:nvSpPr>
            <p:spPr>
              <a:xfrm>
                <a:off x="2503440" y="234792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矩形 43"/>
              <p:cNvSpPr/>
              <p:nvPr/>
            </p:nvSpPr>
            <p:spPr>
              <a:xfrm>
                <a:off x="2786760" y="234792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矩形 47"/>
              <p:cNvSpPr/>
              <p:nvPr/>
            </p:nvSpPr>
            <p:spPr>
              <a:xfrm>
                <a:off x="3070080" y="234792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矩形 48"/>
              <p:cNvSpPr/>
              <p:nvPr/>
            </p:nvSpPr>
            <p:spPr>
              <a:xfrm>
                <a:off x="3353760" y="234792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组合 151"/>
            <p:cNvGrpSpPr/>
            <p:nvPr/>
          </p:nvGrpSpPr>
          <p:grpSpPr>
            <a:xfrm>
              <a:off x="2503440" y="2703960"/>
              <a:ext cx="1133640" cy="355320"/>
              <a:chOff x="2503440" y="2703960"/>
              <a:chExt cx="1133640" cy="355320"/>
            </a:xfrm>
          </p:grpSpPr>
          <p:sp>
            <p:nvSpPr>
              <p:cNvPr id="1230" name="矩形 152"/>
              <p:cNvSpPr/>
              <p:nvPr/>
            </p:nvSpPr>
            <p:spPr>
              <a:xfrm>
                <a:off x="2503440" y="270396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矩形 153"/>
              <p:cNvSpPr/>
              <p:nvPr/>
            </p:nvSpPr>
            <p:spPr>
              <a:xfrm>
                <a:off x="2786760" y="270396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矩形 154"/>
              <p:cNvSpPr/>
              <p:nvPr/>
            </p:nvSpPr>
            <p:spPr>
              <a:xfrm>
                <a:off x="3070080" y="270396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矩形 155"/>
              <p:cNvSpPr/>
              <p:nvPr/>
            </p:nvSpPr>
            <p:spPr>
              <a:xfrm>
                <a:off x="3353760" y="2703960"/>
                <a:ext cx="283320" cy="3553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矩形 158"/>
          <p:cNvSpPr/>
          <p:nvPr/>
        </p:nvSpPr>
        <p:spPr>
          <a:xfrm>
            <a:off x="335448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矩形 159"/>
          <p:cNvSpPr/>
          <p:nvPr/>
        </p:nvSpPr>
        <p:spPr>
          <a:xfrm>
            <a:off x="363852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矩形 160"/>
          <p:cNvSpPr/>
          <p:nvPr/>
        </p:nvSpPr>
        <p:spPr>
          <a:xfrm>
            <a:off x="363852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矩形 161"/>
          <p:cNvSpPr/>
          <p:nvPr/>
        </p:nvSpPr>
        <p:spPr>
          <a:xfrm>
            <a:off x="2787480" y="27036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矩形 162"/>
          <p:cNvSpPr/>
          <p:nvPr/>
        </p:nvSpPr>
        <p:spPr>
          <a:xfrm>
            <a:off x="3070080" y="23479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163"/>
          <p:cNvSpPr/>
          <p:nvPr/>
        </p:nvSpPr>
        <p:spPr>
          <a:xfrm>
            <a:off x="5343480" y="2703600"/>
            <a:ext cx="2826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矩形 164"/>
          <p:cNvSpPr/>
          <p:nvPr/>
        </p:nvSpPr>
        <p:spPr>
          <a:xfrm>
            <a:off x="3070080" y="23479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4"/>
          <p:cNvSpPr/>
          <p:nvPr/>
        </p:nvSpPr>
        <p:spPr>
          <a:xfrm>
            <a:off x="2503440" y="2347920"/>
            <a:ext cx="28404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6"/>
          <p:cNvSpPr/>
          <p:nvPr/>
        </p:nvSpPr>
        <p:spPr>
          <a:xfrm>
            <a:off x="4775040" y="2347920"/>
            <a:ext cx="2826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11"/>
          <p:cNvSpPr/>
          <p:nvPr/>
        </p:nvSpPr>
        <p:spPr>
          <a:xfrm>
            <a:off x="4775040" y="3060720"/>
            <a:ext cx="284400" cy="355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12"/>
          <p:cNvSpPr/>
          <p:nvPr/>
        </p:nvSpPr>
        <p:spPr>
          <a:xfrm>
            <a:off x="4775040" y="2703600"/>
            <a:ext cx="28440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13"/>
          <p:cNvSpPr/>
          <p:nvPr/>
        </p:nvSpPr>
        <p:spPr>
          <a:xfrm>
            <a:off x="5059440" y="2703600"/>
            <a:ext cx="28404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组合 2"/>
          <p:cNvGrpSpPr/>
          <p:nvPr/>
        </p:nvGrpSpPr>
        <p:grpSpPr>
          <a:xfrm>
            <a:off x="0" y="101520"/>
            <a:ext cx="2944800" cy="525600"/>
            <a:chOff x="0" y="101520"/>
            <a:chExt cx="2944800" cy="525600"/>
          </a:xfrm>
        </p:grpSpPr>
        <p:pic>
          <p:nvPicPr>
            <p:cNvPr id="124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3920" y="101520"/>
              <a:ext cx="281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8" name="组合 4"/>
            <p:cNvGrpSpPr/>
            <p:nvPr/>
          </p:nvGrpSpPr>
          <p:grpSpPr>
            <a:xfrm>
              <a:off x="0" y="197280"/>
              <a:ext cx="389160" cy="272160"/>
              <a:chOff x="0" y="197280"/>
              <a:chExt cx="389160" cy="272160"/>
            </a:xfrm>
          </p:grpSpPr>
          <p:sp>
            <p:nvSpPr>
              <p:cNvPr id="1249" name="椭圆 2"/>
              <p:cNvSpPr/>
              <p:nvPr/>
            </p:nvSpPr>
            <p:spPr>
              <a:xfrm rot="16200000">
                <a:off x="234360" y="36324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960" y="33408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椭圆 29"/>
              <p:cNvSpPr/>
              <p:nvPr/>
            </p:nvSpPr>
            <p:spPr>
              <a:xfrm rot="16200000">
                <a:off x="234360" y="23940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960" y="21276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17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1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5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7" name="文本框 1"/>
          <p:cNvSpPr/>
          <p:nvPr/>
        </p:nvSpPr>
        <p:spPr>
          <a:xfrm>
            <a:off x="441360" y="958680"/>
            <a:ext cx="75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两个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、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分别拼成一个正方形和一个长方形，它们的周长各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2043000" y="2058840"/>
            <a:ext cx="1079640" cy="1150920"/>
            <a:chOff x="2043000" y="2058840"/>
            <a:chExt cx="1079640" cy="1150920"/>
          </a:xfrm>
        </p:grpSpPr>
        <p:sp>
          <p:nvSpPr>
            <p:cNvPr id="1259" name="矩形 4"/>
            <p:cNvSpPr/>
            <p:nvPr/>
          </p:nvSpPr>
          <p:spPr>
            <a:xfrm>
              <a:off x="2043000" y="2058840"/>
              <a:ext cx="1079640" cy="575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矩形 6"/>
            <p:cNvSpPr/>
            <p:nvPr/>
          </p:nvSpPr>
          <p:spPr>
            <a:xfrm>
              <a:off x="2043000" y="2634120"/>
              <a:ext cx="1079640" cy="5756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组合 12"/>
          <p:cNvGrpSpPr/>
          <p:nvPr/>
        </p:nvGrpSpPr>
        <p:grpSpPr>
          <a:xfrm>
            <a:off x="4699080" y="2486160"/>
            <a:ext cx="2158560" cy="574560"/>
            <a:chOff x="4699080" y="2486160"/>
            <a:chExt cx="2158560" cy="574560"/>
          </a:xfrm>
        </p:grpSpPr>
        <p:sp>
          <p:nvSpPr>
            <p:cNvPr id="1262" name="矩形 8"/>
            <p:cNvSpPr/>
            <p:nvPr/>
          </p:nvSpPr>
          <p:spPr>
            <a:xfrm>
              <a:off x="4699080" y="2486160"/>
              <a:ext cx="1079280" cy="5745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矩形 9"/>
            <p:cNvSpPr/>
            <p:nvPr/>
          </p:nvSpPr>
          <p:spPr>
            <a:xfrm>
              <a:off x="5778360" y="2486160"/>
              <a:ext cx="1079280" cy="5745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文本框 10"/>
          <p:cNvSpPr/>
          <p:nvPr/>
        </p:nvSpPr>
        <p:spPr>
          <a:xfrm>
            <a:off x="2049480" y="327960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13"/>
          <p:cNvSpPr/>
          <p:nvPr/>
        </p:nvSpPr>
        <p:spPr>
          <a:xfrm>
            <a:off x="3211560" y="275436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文本框 14"/>
          <p:cNvSpPr/>
          <p:nvPr/>
        </p:nvSpPr>
        <p:spPr>
          <a:xfrm>
            <a:off x="3211560" y="211932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文本框 15"/>
          <p:cNvSpPr/>
          <p:nvPr/>
        </p:nvSpPr>
        <p:spPr>
          <a:xfrm>
            <a:off x="4705200" y="320040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文本框 16"/>
          <p:cNvSpPr/>
          <p:nvPr/>
        </p:nvSpPr>
        <p:spPr>
          <a:xfrm>
            <a:off x="5851440" y="320040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文本框 17"/>
          <p:cNvSpPr/>
          <p:nvPr/>
        </p:nvSpPr>
        <p:spPr>
          <a:xfrm>
            <a:off x="331920" y="399096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正方形的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18"/>
          <p:cNvSpPr/>
          <p:nvPr/>
        </p:nvSpPr>
        <p:spPr>
          <a:xfrm>
            <a:off x="88920" y="4952880"/>
            <a:ext cx="22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长方形的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19"/>
          <p:cNvSpPr/>
          <p:nvPr/>
        </p:nvSpPr>
        <p:spPr>
          <a:xfrm>
            <a:off x="4630680" y="399096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正方形的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20"/>
          <p:cNvSpPr/>
          <p:nvPr/>
        </p:nvSpPr>
        <p:spPr>
          <a:xfrm>
            <a:off x="3924360" y="4952880"/>
            <a:ext cx="22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长方形的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21"/>
          <p:cNvSpPr/>
          <p:nvPr/>
        </p:nvSpPr>
        <p:spPr>
          <a:xfrm>
            <a:off x="2370240" y="392904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+2=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文本框 22"/>
          <p:cNvSpPr/>
          <p:nvPr/>
        </p:nvSpPr>
        <p:spPr>
          <a:xfrm>
            <a:off x="1800360" y="495288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+4=8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23"/>
          <p:cNvSpPr/>
          <p:nvPr/>
        </p:nvSpPr>
        <p:spPr>
          <a:xfrm>
            <a:off x="6632640" y="392904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=1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24"/>
          <p:cNvSpPr/>
          <p:nvPr/>
        </p:nvSpPr>
        <p:spPr>
          <a:xfrm>
            <a:off x="5851440" y="4952880"/>
            <a:ext cx="32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+8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组合 2"/>
          <p:cNvGrpSpPr/>
          <p:nvPr/>
        </p:nvGrpSpPr>
        <p:grpSpPr>
          <a:xfrm>
            <a:off x="0" y="101520"/>
            <a:ext cx="2944800" cy="525600"/>
            <a:chOff x="0" y="101520"/>
            <a:chExt cx="2944800" cy="525600"/>
          </a:xfrm>
        </p:grpSpPr>
        <p:pic>
          <p:nvPicPr>
            <p:cNvPr id="127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3920" y="101520"/>
              <a:ext cx="281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9" name="组合 4"/>
            <p:cNvGrpSpPr/>
            <p:nvPr/>
          </p:nvGrpSpPr>
          <p:grpSpPr>
            <a:xfrm>
              <a:off x="0" y="197280"/>
              <a:ext cx="389160" cy="272160"/>
              <a:chOff x="0" y="197280"/>
              <a:chExt cx="389160" cy="272160"/>
            </a:xfrm>
          </p:grpSpPr>
          <p:sp>
            <p:nvSpPr>
              <p:cNvPr id="1280" name="椭圆 2"/>
              <p:cNvSpPr/>
              <p:nvPr/>
            </p:nvSpPr>
            <p:spPr>
              <a:xfrm rot="16200000">
                <a:off x="234360" y="36324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960" y="33408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2" name="椭圆 29"/>
              <p:cNvSpPr/>
              <p:nvPr/>
            </p:nvSpPr>
            <p:spPr>
              <a:xfrm rot="16200000">
                <a:off x="234360" y="23940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960" y="21276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17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1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52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1752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8" name="文本框 1"/>
          <p:cNvSpPr/>
          <p:nvPr/>
        </p:nvSpPr>
        <p:spPr>
          <a:xfrm>
            <a:off x="276120" y="896760"/>
            <a:ext cx="86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一个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，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铁丝框架改围成一个正方形，这个正方形的边长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框 3"/>
          <p:cNvSpPr/>
          <p:nvPr/>
        </p:nvSpPr>
        <p:spPr>
          <a:xfrm>
            <a:off x="461880" y="213372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长方形的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文本框 4"/>
          <p:cNvSpPr/>
          <p:nvPr/>
        </p:nvSpPr>
        <p:spPr>
          <a:xfrm>
            <a:off x="461880" y="3271680"/>
            <a:ext cx="24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正方形的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3040200" y="21654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+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1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=3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框 9"/>
          <p:cNvSpPr/>
          <p:nvPr/>
        </p:nvSpPr>
        <p:spPr>
          <a:xfrm>
            <a:off x="3357720" y="3271680"/>
            <a:ext cx="25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框 10"/>
          <p:cNvSpPr/>
          <p:nvPr/>
        </p:nvSpPr>
        <p:spPr>
          <a:xfrm>
            <a:off x="609480" y="4176720"/>
            <a:ext cx="60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这个正方形的边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3:17:00Z</dcterms:created>
  <dc:creator/>
  <dc:description/>
  <dc:language>en-US</dc:language>
  <cp:lastModifiedBy>万润仪器贸易公司</cp:lastModifiedBy>
  <dcterms:modified xsi:type="dcterms:W3CDTF">2020-08-21T01:50:0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